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ubTitle"/>
          </p:nvPr>
        </p:nvSpPr>
        <p:spPr>
          <a:xfrm>
            <a:off x="1447920" y="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" name="" descr=""/>
          <p:cNvPicPr/>
          <p:nvPr/>
        </p:nvPicPr>
        <p:blipFill>
          <a:blip r:embed="rId1"/>
          <a:stretch/>
        </p:blipFill>
        <p:spPr>
          <a:xfrm>
            <a:off x="-22860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41" name=""/>
          <p:cNvSpPr/>
          <p:nvPr/>
        </p:nvSpPr>
        <p:spPr>
          <a:xfrm>
            <a:off x="2895480" y="3429000"/>
            <a:ext cx="6400800" cy="158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ppa delle provenienze nella Formazione Professionale per l’assolvimento del diritto-dovere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.f. 2008-20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5761080"/>
            <a:ext cx="9448920" cy="11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Fonti: </a:t>
            </a:r>
            <a:r>
              <a:rPr b="1" i="1" lang="en-US" sz="1200" spc="-1" strike="noStrike">
                <a:solidFill>
                  <a:srgbClr val="ffffff"/>
                </a:solidFill>
                <a:latin typeface="Times New Roman"/>
              </a:rPr>
              <a:t>Sistema Informativo Formazione Professionale (SIFP/SIFER)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Rilevazione dati a cura di</a:t>
            </a:r>
            <a:br>
              <a:rPr sz="1200"/>
            </a:br>
            <a:r>
              <a:rPr b="1" i="1" lang="en-US" sz="1200" spc="-1" strike="noStrike">
                <a:solidFill>
                  <a:srgbClr val="ffffff"/>
                </a:solidFill>
                <a:latin typeface="Times New Roman"/>
              </a:rPr>
              <a:t>U.O. certificazione e gestione attività formative -  Settore Servizi alla Persona e alla Comunit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Elaborazione dati a cura di </a:t>
            </a:r>
            <a:br>
              <a:rPr sz="1200"/>
            </a:br>
            <a:r>
              <a:rPr b="1" i="1" lang="en-US" sz="1200" spc="-1" strike="noStrike">
                <a:solidFill>
                  <a:srgbClr val="ffffff"/>
                </a:solidFill>
                <a:latin typeface="Times New Roman"/>
              </a:rPr>
              <a:t>U.O. Programmazione attività formative – Servizio Scuola e Formazi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2743200" y="2590920"/>
          <a:ext cx="6248520" cy="3581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2590920"/>
                    <a:ext cx="6248520" cy="358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바탕"/>
              </a:rPr>
              <a:t>Provenienza alliev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304920" y="762120"/>
          <a:ext cx="4800600" cy="17809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762120"/>
                    <a:ext cx="4800600" cy="178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바탕"/>
              </a:rPr>
              <a:t>Classe di provenienza della</a:t>
            </a:r>
            <a:br>
              <a:rPr sz="2800"/>
            </a:br>
            <a:r>
              <a:rPr b="1" i="1" lang="en-US" sz="2800" spc="-1" strike="noStrike">
                <a:solidFill>
                  <a:srgbClr val="000000"/>
                </a:solidFill>
                <a:latin typeface="바탕"/>
              </a:rPr>
              <a:t>Scuola media superi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228600" y="914400"/>
          <a:ext cx="5105520" cy="1889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914400"/>
                    <a:ext cx="5105520" cy="188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2209680" y="2895480"/>
          <a:ext cx="6782040" cy="34340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09680" y="2895480"/>
                    <a:ext cx="6782040" cy="343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1371600" y="152280"/>
          <a:ext cx="6400800" cy="5943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52280"/>
                    <a:ext cx="6400800" cy="594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1371600" y="152280"/>
          <a:ext cx="7086600" cy="5943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52280"/>
                    <a:ext cx="7086600" cy="594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바탕"/>
              </a:rPr>
              <a:t>Classe di provenienza della</a:t>
            </a:r>
            <a:br>
              <a:rPr sz="2800"/>
            </a:br>
            <a:r>
              <a:rPr b="1" i="1" lang="en-US" sz="2800" spc="-1" strike="noStrike">
                <a:solidFill>
                  <a:srgbClr val="000000"/>
                </a:solidFill>
                <a:latin typeface="바탕"/>
              </a:rPr>
              <a:t>Scuola media inferi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228600" y="914400"/>
          <a:ext cx="3962520" cy="1996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914400"/>
                    <a:ext cx="3962520" cy="199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" name=""/>
          <p:cNvGraphicFramePr/>
          <p:nvPr/>
        </p:nvGraphicFramePr>
        <p:xfrm>
          <a:off x="3276720" y="2895480"/>
          <a:ext cx="5867280" cy="33530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76720" y="2895480"/>
                    <a:ext cx="5867280" cy="335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바탕"/>
              </a:rPr>
              <a:t>Provenienza allievi</a:t>
            </a:r>
            <a:r>
              <a:rPr b="1" i="1" lang="en-US" sz="2000" spc="-1" strike="noStrike">
                <a:solidFill>
                  <a:srgbClr val="000000"/>
                </a:solidFill>
                <a:latin typeface="바탕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1143000" y="1371600"/>
          <a:ext cx="6934320" cy="3884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371600"/>
                    <a:ext cx="6934320" cy="388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304920" y="380880"/>
          <a:ext cx="8534160" cy="5391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380880"/>
                    <a:ext cx="8534160" cy="539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바탕"/>
              </a:rPr>
              <a:t>Flussi, ritiri e subentri su base  bienna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1219320" y="1981080"/>
          <a:ext cx="6248160" cy="3936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981080"/>
                    <a:ext cx="6248160" cy="393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9T13:45:53Z</dcterms:created>
  <dc:creator>CASANOVA MANUELA</dc:creator>
  <dc:description/>
  <dc:language>en-US</dc:language>
  <cp:lastModifiedBy>CASANOVA MANUELA</cp:lastModifiedBy>
  <dcterms:modified xsi:type="dcterms:W3CDTF">2008-12-11T15:33:46Z</dcterms:modified>
  <cp:revision>31</cp:revision>
  <dc:subject/>
  <dc:title>NON UNO DI MENO: UNA SFIDA POSSIBILE Verso un nuovo patto territoriale per il contrasto alla dispersione scolastica e formativa</dc:title>
</cp:coreProperties>
</file>